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whoosh.wav" ContentType="audio/x-wav"/>
  <Override PartName="/ppt/media/image3.jpeg" ContentType="image/jpeg"/>
  <Override PartName="/ppt/media/image4.png" ContentType="image/pn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52000" y="684360"/>
            <a:ext cx="455796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ACA0D444-B003-41CB-9F83-81E129605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duce short term extinction ri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Supplementation may be used to reduce the risk that a population on the verge of extirpation will be lost by expeditiously boosting the number of emigrating juveniles in a given brood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eserve population while factors for decline are being addres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Supplementation may be used to preserve or increase summer chum salmon populations while other factors causing decreased abundances are add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peed recover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upplementation may be used to accelerate recovery of populations by increasing abundances in a shorter time frame than may be achievable through natural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tablish a reserve population for use if the natural population suffers a catastrophic los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upplementation programs may be used to create an additional reservoir for a particular summer chum genome to prevent loss of the entire population due to natural or anthropogenic catastrop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seed vacant habitat capable of supporting salm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ummer chum salmon may be reintroduced to streams where populations have been extirpated and the causes of extirpation are being add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vide scientific information regarding the use of supplementation in conserving natural population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Valuable information indicating the effectiveness and effects of supplementation in recovering summer chum salmon can be col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3D1-6B11-49AD-9B50-3669875F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5391-91D6-4A3A-9031-0C91A58B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9467-A466-46EF-A304-F005EA80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9AD8-09E1-4175-9544-E292A0AB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01876-3FFF-4A15-A2DD-5C7A4CC7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94A1E-D6BE-4883-B0E4-A64D2092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3F770-65CE-49AA-ACD9-A77720B3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0BF29-7D88-4558-B1F5-1A38F15B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7B195-3202-48C0-9EEB-37FA3BFC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25E59-61A9-4B46-8095-0F2061DC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CB3CD-0399-491E-BDC8-85CF0C1E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8FF4-E1D2-4E00-AEB6-443036D7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726BC-2FAA-4025-9D8F-FE50B4E2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85BF9-BF53-40E5-A73A-C6DA2561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46350-2B17-46A5-9131-3EFFBEDC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2014C-D4D5-4765-B325-F9FA4446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A5174-360C-49A8-B806-EE12459A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0C19-98DC-4B34-BFCB-7454D5A9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5099-6C97-4474-A761-BA425BC8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3EA-486C-47CE-913D-7AFAD8CB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6CE2-01BF-45A5-8833-71CDBD9E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98E-8540-4712-9366-7DA86429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1D27-C467-4B9E-8CF4-BF8FD08E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B89F-0340-4C6B-8DD5-C31173CB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373B-A161-4049-85FA-A4E958BC00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D892-7E69-4811-BFC7-21288A432C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a.gov/wdfw/fish/chum/chum.ht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ddressing the Potential Effect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f Hatchery Interaction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n the ESA-listed Species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ood Canal (Washington) Summer Chum Salm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3809880"/>
            <a:ext cx="67820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m Tyn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AA Fisher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hris Well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int No Point Treaty Counci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om H. Johns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ashington Department of Fish and Wildlif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943600" y="449568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562720" y="3733920"/>
            <a:ext cx="685800" cy="668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705720" y="5486400"/>
            <a:ext cx="682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isk Ratings for Competition and Behavioral Modific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Ris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no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art of a formal recovery program, unable to remove &gt;90% of returning hatchery chinook, coho, fall chum or pink spawners (i.e., risk of redd super-imposition and/or competi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fed or fed fall chum or pink fry released before Apr.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i.e., overlaps with natural outmigration tim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ease timing of hatchery fish is unknow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RATE Ris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ll chinook released from marine area netpens (i.e., potential straying of spawners into summer chum strea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k Aversion Measu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Fish Disease Transf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pply protoco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Pacific Northwest Fish Health Protection Committee (PNFHPC 1989) and Salmonid Disease Control Policy of the Fisheries Co-managers of Washington State (NWIFC and WDFW 1998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spect prior to relea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ll hatchery production by WDFW or USFWS fish pathologists to certify their disease status and health condi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plement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066680"/>
            <a:ext cx="838188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 aversion and m&amp;e measures were specified for each hatchery program and implemented beginning in 19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st programs were rated Low risk for all categori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ation (cont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ograms with High or Moderate risks implemented common measur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ayed release of fall chum or pink fry until after April 1st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eas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o reduce risks of predator attraction or competition for food, or changes in feeding behavior or use of preferred migration areas by summer chum f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ontinued programs releasing hatchery-origin chinook or fall chum in summer chum streams, unless part of a formal recovery program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eas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o reduce risk of competition, redd super-imposition and behavior modification with summer chum adul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t follow fish health protocols and reporting requirements; N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o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pplied to several volunteer/coop proj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sk assessment process and implementation have generally been successf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hatchery programs have been terminated in response to concern about hatchery inter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quired changes have been done with limited effect on day-to-day hatchery ope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complications with loadings and pond mgt, but all do-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rminated programs eased up other progr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volunteer coop projects are now consistent with guidel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tchery interactions measures have been incorporated in hatchery ESA 4(d) rule issued by NOAA Fisher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ottom l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isks to summer chum are reduc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ESA listings and concerns for recovery of wild popl’ns, there is increasing focus on potential interactions b/w hatchery and wild fi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and Tribal Co-managers in Washington decided to 1) identify potential negative impacts of hatcheries on ESA-listed summer chum salmon and 2) identify mitigative measures to minimize any risks to summer ch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describe here the approach used and report on initial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ch 1999, ESA listing of Hood Canal summer chum salmon Evolutionarily Sig. Unit (ES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April 2000, Co-managers completed the “Summer Chum Salmon Conservation Initiative, An Implementation Plan to Recover Summer Chum in the Hood Canal and Strait of Juan de Fuca Regio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wa.gov/wdfw/fish/chum/chum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2002, ESA 4(d) rule requirements incorporated the hatchery conservation measures identified in the SCSCI (i.e., Resource Mgt Plan – RM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398600" y="152280"/>
            <a:ext cx="52750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ckground (cont.)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of hatcheries is long-standing and important in the Hood Canal region with WDFW, Tribal, and USFWS facilities, and cooperative projects by volunteer fish enhancement group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tchery objectives include providing surplus fish for harvest, mitigation for fish production losses due to habitat degradation, and wild salmonid stock reco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r chinook, coho, chum, and pink salmon and steelhead; trout also, but not discussed 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91600"/>
            <a:ext cx="8915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ssessing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Potential Risk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of Hatchery Activities on Summer Chu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laid summer chum life history with release/migration timing of hatchery fi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irect impac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is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ue to physical operation of hatcher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cological impac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ue to interactions b/w hatchery fish and summer chum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is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ue to predation, competition/behavior modification, fish disease transf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85800" y="380880"/>
          <a:ext cx="7924680" cy="647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880"/>
                    <a:ext cx="792468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neral Approa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762120"/>
            <a:ext cx="8382240" cy="70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ed ratings for each risk categor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ied appropriate risk aversion (r.a.) measures for each risk categ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ied monitoring/evaluation (m&amp;e) measures to help make sure the risk aversion measures were implemented successfu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, rated risks of each hatchery program and identified the r.a. and m&amp;e measures needed to reduce any moderate or high risk to a low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isk Rating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 Hatchery Operation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IGH risk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oodstock trap on summer chum strea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ot checked 2X a day or hold chum for &gt;24 hrs or not handled proper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intakes/outlets are not screen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withdrawal reduces flows w/ negative impact on summer chum str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 of compliance with NPDES perm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1:12:48Z</dcterms:created>
  <dc:creator>TynanT</dc:creator>
  <dc:description/>
  <dc:language>en-US</dc:language>
  <cp:lastModifiedBy>Bob Smith</cp:lastModifiedBy>
  <dcterms:modified xsi:type="dcterms:W3CDTF">2004-03-19T17:19:24Z</dcterms:modified>
  <cp:revision>160</cp:revision>
  <dc:subject/>
  <dc:title>Supplementation Standards for Rebuilding Hood Canal Summer Chum Populations</dc:title>
</cp:coreProperties>
</file>